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45A-60C6-418D-B654-75DEAE53F7D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 on what these slides mean to you as you think about becoming a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565-E893-4126-B16F-B9B36E03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717-E50F-4719-9DD9-27CDA39C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F8A-8205-4C8F-A2D0-F4908B29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DE2-028C-4456-9B0C-D04F3D9E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CBB-EE70-45A5-ADDD-642B3DB3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59E-608F-4756-AEAF-3AD3F735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1C7-B29A-4375-AB9E-FCAE1CA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895-D9AD-40B8-B54A-BD8A47E0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B89-A67D-44D2-8BE7-42DADB93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9FC-EE5D-4415-A178-E0455D5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72C-9342-4D9F-A7D7-545BACF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7EF-79BC-47B1-99D9-038EA1E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285A-9824-49E2-A08A-88459C90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reativecow.net/articles/okerstrom_jon/reflections/OddReflection1.jpg&amp;imgrefurl=http://library.creativecow.net/articles/okerstrom_jon/reflections.php&amp;usg=__LIoPuGCd6j_Ru6gc1IiauDTIf9I=&amp;h=420&amp;w=630&amp;sz=18&amp;hl=en&amp;start=3&amp;tbnid=MfIF9RhON5Ma2M:&amp;tbnh=91&amp;tbnw=137&amp;prev=/images%3Fq%3Dreflection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olidate Debrie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736640"/>
            <a:ext cx="6409080" cy="42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a drop of water falls from the tip of an ic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6675" t="66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1:55:59Z</dcterms:created>
  <dc:creator>Information Services</dc:creator>
  <dc:description/>
  <dc:language>en-US</dc:language>
  <cp:lastModifiedBy>Information Services</cp:lastModifiedBy>
  <dcterms:modified xsi:type="dcterms:W3CDTF">2009-08-19T21:56:16Z</dcterms:modified>
  <cp:revision>1</cp:revision>
  <dc:subject/>
  <dc:title>Consolidate Debrief (continued)</dc:title>
</cp:coreProperties>
</file>